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B23E-9DE2-4C8A-8B63-E3975AEE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735E-F9FF-47CF-B777-8288B435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85A5-1DBE-4B8C-AF4B-BC1772CD5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938E-D148-4E70-9074-8CF6E9DD9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55CE-F743-43A2-855F-E8C75A9F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EC8E-B791-46FB-A25A-E21069C3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CDFE-589A-4A30-A8AD-4BC4EDDB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0762-94ED-46CD-AD06-81C81216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0D53-6012-489D-B8A0-C06BEAC2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E50F-A944-4A33-8756-517479ED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AA3D-950B-478D-9657-A3DBFF9B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8A96-4643-4B1B-A0BA-7FDAAD6A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09D4-F336-4710-AC39-C738662E9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46 Byť stále blízko teb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yť stále blízko teb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Pane, túžbu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ísť po tvojom bok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nebyť nikdy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iež smiem ťa lepšie pozn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 všetko mať ťa rá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ať v tebe síl zdroj stál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ť podľa tvojich rá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každú starosť vlož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do tvojich rúk l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miluješ ma ver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o cítim deň čo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teba nasledov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tvoje meno ct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č preto Duchom svoj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ňa hojne obdar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ne pomôž pripraviť s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onen vzácny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na zem prídeš v sláv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drahý Pane, z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ud tvoj ťa bude vít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ja tam túžim stá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tvoju lásku chvál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esť chcem ti piesňou vzda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8T12:42:06Z</dcterms:modified>
  <cp:revision>21</cp:revision>
  <dc:subject/>
  <dc:title>Je veľký náš Pán, on slávy je Kráľ Nech do všetkých strán  spev vrúcnych znie chvál.</dc:title>
</cp:coreProperties>
</file>